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933-AD7A-4F1B-AA9B-0C4C3695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699-72FF-4A1B-ABC2-D81F832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3CF-579F-4D5D-81B7-0206EA05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60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1560" y="176796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60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1560" y="4371480"/>
            <a:ext cx="26179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E65-EDB9-4824-A632-D3335F6A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860-029F-4314-8308-9B2CF06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59A-E620-426D-BA6A-BA8CD05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04F-6231-4247-8750-3955733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A79-F7D8-41F4-9EFA-BA5FFEDF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680"/>
            <a:ext cx="8275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231-4041-41C2-912F-AAF7DA4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3A9-10CA-4EDF-86C4-03170CB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437148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81-43C4-441D-AB2A-27A6768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767960"/>
            <a:ext cx="39675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81309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C2D-F4A5-4279-839E-2260C4E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8275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1309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10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F6EFD-EFC8-4777-9B30-6F97D48846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45960"/>
            <a:ext cx="82803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e Movement Beg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. </a:t>
            </a:r>
            <a:r>
              <a:rPr b="1" i="1" lang="en-US" sz="4400" spc="-1" strike="noStrike">
                <a:solidFill>
                  <a:srgbClr val="198a8a"/>
                </a:solidFill>
                <a:latin typeface="Arial"/>
              </a:rPr>
              <a:t>Brown v. Board of Educati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ead attorney Thurgood Marsh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upreme Cou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ruling:                 unconstitu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 Applied to publ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schools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72080" y="1600200"/>
            <a:ext cx="5157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0080720" cy="73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45960"/>
            <a:ext cx="827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Thurgood Marshall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3968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ader of the NAACP's Legal Defense and Educ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irst African American Supreme Court Justice,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71960" y="1371600"/>
            <a:ext cx="39434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Southern Resistance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5705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“Souther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ifes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. Encouraged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Southerners to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defy th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Supreme Court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ruling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72080" y="1600200"/>
            <a:ext cx="51577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45960"/>
            <a:ext cx="8278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D. Montgomery Bus Boycot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39686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form of non-violent pro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Favored by Martin    Luther King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c.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 to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 2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esulted from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a Park's ar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345960"/>
            <a:ext cx="8278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Martin Luther King, Jr.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39686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eader of the bus     boyc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avored the non-     violent protesting     techniques of           Gand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307800"/>
            <a:ext cx="82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E. Southern Christian Leadership Conference (SCLC)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103120"/>
            <a:ext cx="39686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tablished after the success of the bus boyco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t out to eliminate segregation and encouraged voter regis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F. Crisis in Little Rock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2240" y="1828440"/>
            <a:ext cx="81342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v. Faubus sent Arkansas National Guard to keep nine African Americans from going to a 'white'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isenhower sent Troops to protect and allow the students to go to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 nine African American students became known as the 'Little Rock Nine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9601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 difference between de facto segregation and de jure segre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the effects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 v. Board of Edu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what the Civil Rights Act of 1957 did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G. New Legislati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3968640" cy="544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Civil Rights Act of 195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Protect the right to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Compromise made to pass b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 Civil Rights division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in the Dept. of Jus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. US Commission 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Civil Right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SCLC began a campaign to register vo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240" y="1371600"/>
            <a:ext cx="446076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A. Origins of the Movemen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5720" y="1188720"/>
            <a:ext cx="41986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sa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Sparked a new era i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the Civil Righ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NAACP (Nation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Association for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Advancement of Color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People) got invol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rgan v.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egregation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nterstate bu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unconstitu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Why was Par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rrested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</a:t>
            </a:r>
            <a:r>
              <a:rPr b="1" i="1" lang="en-US" sz="4400" spc="-1" strike="noStrike">
                <a:solidFill>
                  <a:srgbClr val="198a8a"/>
                </a:solidFill>
                <a:latin typeface="Arial"/>
              </a:rPr>
              <a:t>Plessy v. Ferguso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704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896, ru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egreg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constitu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reated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separate 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equal”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Separate fac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k as long as th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r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32200" y="1371600"/>
            <a:ext cx="4411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1680" y="503280"/>
            <a:ext cx="828036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4. “Jim Crow” Law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0640" y="1798200"/>
            <a:ext cx="80884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gregation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 Facto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Segregation by custom or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 Jure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Segregation established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45820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B. New Political Power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5560" y="2103120"/>
            <a:ext cx="74325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reat Mig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frican Americans moved to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ther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30s, New Deal helped Afri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id this do for the polit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3. CORE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7044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gress of Racial                  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Used sit-ins as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m of protest;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p. in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Successfu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teg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aters,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1:58:14Z</dcterms:created>
  <dc:creator>Courtney Huro</dc:creator>
  <dc:description>Presentation Layout Template</dc:description>
  <dc:language>en-US</dc:language>
  <cp:lastModifiedBy>School District U46</cp:lastModifiedBy>
  <dcterms:modified xsi:type="dcterms:W3CDTF">2011-04-05T19:37:43Z</dcterms:modified>
  <cp:revision>12</cp:revision>
  <dc:subject/>
  <dc:title>Rounded Rectangles</dc:title>
</cp:coreProperties>
</file>